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FF97-2F12-4E18-9BC2-8E766489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E82-BBF0-47BD-840A-CDFD0191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32F-D0AF-41E2-964A-A87A9E73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74A-ABB9-4397-9614-F32C69E2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7B9-44BA-4CAA-A202-5C5C2A47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0DE-B072-4328-A672-A7616303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082-E427-4627-9887-9A16B1C4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125-F895-4753-B7E3-182AF0EF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A10-4657-4A09-BA8B-7CCBF65A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2EA-5ABA-4072-A25B-E6D5CC8B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833-9363-408F-8E68-9A5CE115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DD6-3CB0-416D-9323-1C3E6AA2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6fed"/>
            </a:gs>
            <a:gs pos="50000">
              <a:srgbClr val="000000"/>
            </a:gs>
            <a:gs pos="100000">
              <a:srgbClr val="f76f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B588-0D05-4E8C-B331-C548E6936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6fed"/>
            </a:gs>
            <a:gs pos="50000">
              <a:srgbClr val="000000"/>
            </a:gs>
            <a:gs pos="100000">
              <a:srgbClr val="f76f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dylan watk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1" descr=""/>
          <p:cNvPicPr/>
          <p:nvPr/>
        </p:nvPicPr>
        <p:blipFill>
          <a:blip r:embed="rId1"/>
          <a:stretch/>
        </p:blipFill>
        <p:spPr>
          <a:xfrm>
            <a:off x="3352680" y="609480"/>
            <a:ext cx="2362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6fed"/>
            </a:gs>
            <a:gs pos="50000">
              <a:srgbClr val="000000"/>
            </a:gs>
            <a:gs pos="100000">
              <a:srgbClr val="f76f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ur tae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har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math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rob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dix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wi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6fed"/>
            </a:gs>
            <a:gs pos="50000">
              <a:srgbClr val="000000"/>
            </a:gs>
            <a:gs pos="100000">
              <a:srgbClr val="f76f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ome in at 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have one hour lesson then we go out To play and come back in school for a nother les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go to diner at quarter past twelve then we go back out to play for 30 min. then we go back in for a lesson then we go back out play again then we go back in then we have a little lesson then hom time. and we do gutiar les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6fed"/>
            </a:gs>
            <a:gs pos="50000">
              <a:srgbClr val="000000"/>
            </a:gs>
            <a:gs pos="100000">
              <a:srgbClr val="f76f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mony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ot 5 class ro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ot after school clu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teachers and helpers are very kind to us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a computer sw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49:27Z</dcterms:created>
  <dc:creator>4glenb2</dc:creator>
  <dc:description/>
  <dc:language>en-US</dc:language>
  <cp:lastModifiedBy>4glenb2</cp:lastModifiedBy>
  <dcterms:modified xsi:type="dcterms:W3CDTF">2009-09-30T10:41:51Z</dcterms:modified>
  <cp:revision>1</cp:revision>
  <dc:subject/>
  <dc:title>Our school</dc:title>
</cp:coreProperties>
</file>